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BE1B-0C86-48D4-B888-0E70174F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E42-F486-4199-9289-5BEBF25E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1C338-A010-4F37-BC44-D557C381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7FD1F-DEDE-46D6-A9C1-0776B5EB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006D1-3A45-4349-97F7-F888C07B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E1A60-960B-4597-BDC8-11541CA2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67B04-D607-491B-B4BB-1937FCED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79D08-C0D6-49A1-A4AC-8D9B7CB5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97C7F-9107-4428-AA0A-9F53E43E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0128C-7447-43E5-AC84-DF0E58A7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498EC-9CE9-4064-BC9C-0937E868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9BF4B-2A75-4FB1-A3B4-A9F34977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AA9-F9D2-4362-9E86-0EEAB7FD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8101C-5F3C-494B-8AB6-340625D3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88D31-A087-4AAD-B322-1C6AFE8F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A5F5F-C1FD-46E7-837F-FB01A6E5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DFC6A-F357-4BEF-AF12-E17525A0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91263-F8E8-495E-A0D5-EA8A69BE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EF0E6-A45A-4696-BC1A-B3C890A9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859F0-69A8-463F-900F-0F39397C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A8A96-5281-4E02-B3FB-7EB6DC25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B8819-C6F7-439A-AEDE-34893CB2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753D7-2CFF-4387-AC41-622CC377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0775-FAD2-453D-9281-4FBD3CAB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B04DC-A9A7-4886-B11A-1CD874C7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D15D8-8ABB-4A4A-ABE2-9E40498F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5A524-E894-4139-A4C5-EA5063C4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8D48C-8EC6-4529-9D9B-A368E0C5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F6D8A-3EB5-42EA-BE90-7DDD16CB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80ECE-4D8E-43E5-B552-17D9FCA2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075BB-2139-433F-82C4-8A76648B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A98D5-CC14-432F-9D38-76859DB4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311D6-C3B6-4B48-BC0D-76B2F4D2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93049-ED44-4E1E-BEB9-4AE76F4E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BB0B-CBE7-4734-B3B6-19B69DBE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593FD-F580-4896-ADB3-514BF023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C9C00-E063-4B05-84FD-F4AC0BCA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C697F-6E6A-4C59-AC8F-3074266B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B86B1-26D6-4C49-90D6-FF4F678C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11638-D31B-4A06-A392-E00C0E25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F59FD-6CAE-471E-BD99-BD5889B7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38230-C17A-4AC0-9D37-A7A6A6C6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05722-5191-4306-89B9-9BF1CC07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20BF0-BD67-4608-B484-15186E9E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79ED9-71B1-4DCA-B94F-144D8818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75DA-4C37-42C2-B0D1-0205C00F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98C6B-54B2-4527-8DA7-B0E1A848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5C33E-3589-4986-A6CA-75E1BA99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014F0-F2B2-4F87-BFA0-F47ADB79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3CAC3-988E-4E7A-B8A9-C0AA6112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428D6-58BC-40C3-BBE4-311B55FF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EB1AE-0D1E-4647-A6BD-EB906A5D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DA21B9-3067-4994-8346-1BCF6FB5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A3E1A-3D6E-4CDA-A8B1-5DED0C9F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6C9FD3-1F5C-4F6A-98A2-F06715F8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5DF82-69A2-45E7-AB56-CCAC4E96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3D15-67AB-400A-AC4F-BE845316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9906B-B048-446B-8C7B-8A2692F5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305A28-EC20-4240-9A72-7D96DE8E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86BEB2-82AD-41CA-B45E-C127C986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51F1F-164E-41B8-B0D7-B33BA76D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5B9D3-598D-42F8-9B97-0C633CB3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4179E-2F93-4D10-AAB4-03CD0191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4AC94-188A-49E2-9CDD-048CDD0B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8839BE-0A79-4FA0-A250-251D6C27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3B3E70-4B3A-41A8-BBF8-9580C104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1C35CA-B6AE-40CA-A39E-554B5B72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2165-FFE9-4A32-984B-4139FD52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53A668-C367-4417-A87A-259B24B8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5F8FFF-789E-43BC-BC13-780A3704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4C9B0-71FE-4008-95BD-6FB7E5AE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48D79C-4F52-4F87-A79F-8956EF6D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DD2E3-9159-46E1-BC64-50370982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8B9B8E-6C6F-4E7F-AD0B-8B633B07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91B0D5-45CB-43D7-BD20-657E3A06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7D91D0-4B34-433A-85CB-038F53F0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E94A9B-057E-46EB-A411-342660F3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16915E-162E-4373-B348-49067C87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E7B8-3A2E-42D5-9094-E7F49B53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68D075-16F4-433E-93DC-D362E98C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15407C-03DC-4AA1-856D-2031F37A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58C01B-48DF-4561-A9FE-D454A685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A0794D-2E1B-4E6E-9BE4-88580FEA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4FDE2-3437-4D44-8072-EF231FD0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218304-F616-4DFA-91D9-37161F12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5A27E2-DE69-468E-AA64-BC3F2C4D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6F0595-8231-4C9D-986E-EB102D5E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474503-52CB-40B5-844A-8ADCD0B0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6E940-13A9-410F-953A-77338581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00FD-2583-46C3-B506-CD56A14E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AC2F8E-3640-452F-8AA5-A479A2DD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6BD7AE-04B0-4D7B-8907-70619B92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E40691-94CB-4F67-833B-F94BBB57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ADA7E5-C462-403F-970E-C1DEC214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CFE009-005A-497F-90C3-474A0DAF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3B356-F725-4D15-A34A-B8E301C1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2764E0-EF2F-43CB-AB8A-7C062343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7D7202-6498-42FD-9DF9-6EDEEE00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44462-7ACA-4CA1-9D44-5153DECF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DCA2B-7034-4DAC-AFA5-0BE919A9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697E-EF8F-482C-97CB-A423AC8B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813DA-0B40-4CEC-B071-A3A90345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70550D-3C8E-4722-B388-CD730234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D6F671-EB0B-456F-9F62-E31D7570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8711E8-33A8-41D6-A68C-90753C49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DEE2BC-E461-465B-B5ED-9AC6A6C7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5A508A-94E5-41BB-939D-41ADE848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DE069F-6BEB-46C6-8D7E-808355DF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829CAC-FD19-4157-90C7-94EDBB3E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103AC0-1B50-4C3C-855E-12E75520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79D485-1572-4B29-BB1C-F32BC47A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C93-D961-4673-9F36-E7C5254F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2A8A-F1DE-482E-AC0F-80B02A66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EE6EE8-87DB-4248-84A5-756B8CB6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8A3F9B-9624-43FA-9D49-DEC81F89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267687-A095-412F-8EA4-53176163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42FC8C-FD2B-4BEB-9F3D-84905968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C71F2D-A122-413B-AB22-ADB53AB3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AA6836-174A-43D2-A21D-C068CEA4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CD4C33-0DAC-4B76-9964-256C2BD1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17D182-0F1E-4B6D-B44B-A1B26458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86E3E-CC58-4DF3-96A2-3DA244AF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68CA87-8FF5-457B-964B-5F98DDB6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3198-DC07-499A-9829-CB9275B4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C26924-90A7-451C-BD54-45C66C2F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1158DA-F615-4D32-96E6-BD8E39D0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1F9EE6-A6AC-44E2-9F78-3AB693BE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1F6FD1-2204-493D-81AE-CC2060B8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FBA057-A59A-4BD4-85CE-E0F16CBC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72D94E-A085-4A63-9064-6D27DB70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AEF447-7E33-416E-83BB-B410A727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2216F2-2681-488E-B32B-710B31C7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4555E0-19ED-4FBF-8E8C-DC378B4F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03B25C-E91C-481F-A8A0-C0562268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7FDA-8555-46D4-BE7A-294420B3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562667-275F-4F12-A71D-5BE2C6C0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68BBD9-829B-4E0A-AB68-5CF4812B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F9C969-85D7-47F4-B0E9-E7B145F6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B1927B-4679-494A-9DC1-F0038F7A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F9E278-9EBA-4FEE-ACAF-00789A9E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85AC1C-1BCE-435C-959E-967B6D5D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AE4C28-F9AB-4046-95CF-B9CFF783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0B968E-9631-4219-BF2B-4F4F5810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4860D8-8497-4C2D-BB45-D70F263D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A8A3FC-8B43-44D6-8E6C-2A003F1A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030E-716D-467C-8A5E-C482B2AC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7062A6-0B7A-4EC7-87B7-3F498408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2382CD-C035-4BC3-9224-084877BA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844474-91A8-470E-A127-FA7EE664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BF0717-2FC7-4AB1-B6F8-ABEDF291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AD3201-BCAA-430E-AF3F-B3F9DB15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E28A3C-E8CA-4ADB-9CA8-C6710456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3F5B1B-B8B9-4399-9733-6EBC19DA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4553B8-2CAF-4777-9076-8AD292E7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100C52-FF5E-411A-881B-E81795C5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F8B642-6469-416B-A0CE-1E014F02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E138-B18D-43B6-B184-1F03B14B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D6AE13-322E-449E-9E4A-93652E4A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02ACE3-DE56-4F05-865C-02871543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75A0BC-7BE8-4D88-8461-8825D731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12D4A8-FA89-4BED-97E4-B6771836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6E572B-0FF8-4DD0-BBCD-8F0D1445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FE05D2-1943-45A2-9C6B-5287B318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44B248-4563-4007-87C5-C191F1E0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D0C620-7614-4582-95EA-ECF5B4C5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3183B6-7D83-43C2-8100-1E3DC577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6767CC-8BBA-44F1-8378-09444147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D6CB0-C1D4-4BA8-A841-14821BCF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424254-8B3F-4EF2-8984-FFA7FB20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451DCA-45CE-49E5-B228-F81D692D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95E2E5-FAC4-4C96-A1FF-3E996035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14583-B362-4536-9432-F4D6C2F0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FF59B-2AF2-480E-82B0-599E869E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04534-14D7-453F-A4F3-25406484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E4155-6E92-4869-98F0-7DD36FBF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5DE8-C272-44B6-95B3-CBB7A5AE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CFE4E-C9A5-46CF-A9A1-649C9CA8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C9C8E-6638-46FB-97C5-31D0E22C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20B11-9CF3-4EFF-B797-098269E4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A7685-51F1-461A-AD61-1BB7EFED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D8108-5214-47E9-9FC4-57850C19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75E57-4EEB-4A45-B8A2-C56BF9D3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950B0-7B0C-4BFB-B446-1010C416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C0F61-FCAA-4D12-954F-2683AE43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61E40-94A5-4F39-8F71-0A5910E6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6A381-4BD2-4E4C-AE66-FE07ABF1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91D-A1E9-4B0F-BD2A-F8FD9EA6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CBBB9-6BDB-4CDD-AA66-BD3CE713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38DF7-74F4-4E5E-AF6D-F71C167D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9C515-8167-4502-9B09-8B59D2EA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7C5D6-B4BE-43CA-A0D3-BD6D6246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3434F-0469-4241-9BC1-383B4B1A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2EA40-CFCF-4FAB-B5C5-997320CF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2F904-77E8-4774-B97D-26F2E62B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2461C-57DA-47DC-88FC-C4BAEBB0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AD0B3-1C0A-41C7-A6D7-A37A77E7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67C51-A1BF-4BF3-92E2-BCFBAC4E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954-6194-4F40-BC46-C894BFDC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95F46-ABE7-4531-A3BE-F6EA498C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68615-0381-479D-B1A8-6B62BD26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060C8-C15B-4941-A8A7-36D68630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7B09A-D608-47B6-B71F-AE915A0E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29BD9-1A2B-4369-9CF3-F936D492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D6CE3-F5EF-48CF-934D-9D40E235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1137F-7577-42BA-8146-D2736FA7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F15FE-8222-4B0B-AD1A-4AFBD69F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3DA14-E662-40D1-BBDA-90227573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21593-11B5-4E85-B406-A0474E60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DD3-C947-46E1-8B46-E1DD2764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08C50-734B-486F-A44F-177D2633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526D4-6666-4BB9-BEE6-96D3F25D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066AD-DCA3-47F1-99B6-B42F4096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C4555-A3B2-4EE5-91B5-D29FAB26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66B20-83B5-457C-BDE6-04BC074E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E4CA2-EF88-4890-8243-BD756716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29F53-2EDB-4EF7-AD12-B1D1D6E3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A9F27-62F1-4D27-9DAD-B14E03D2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7235F-041D-42C7-AE34-350EE2CB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6C2C5-F850-4180-A35C-C99C2481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740-9DFE-4417-8245-E49200B6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7AFC5-2B80-491F-920B-6FA3AB84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FE7BD-268F-43E0-94BD-F770E0B2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B69E2-94EF-49D1-BD99-8B717AD2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68887-86BB-4ABD-AEF3-6E6A8BDB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C3435-3FCE-4A2E-914D-B4A26434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19539-94CD-420A-99A2-C47AC054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B8BA5-F471-4B08-974D-48449E59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BDCDE-D5BA-4D56-87F3-0995CFC7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49B97-872C-450A-8146-45DB6E4B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59063-4920-4323-B632-785B6BBF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953-5096-49C1-B78E-00853DD0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F66CE-1577-4CD1-A745-CB0FD7A9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3C667-BBC1-41E0-9B5B-C0BA73DA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E11F9-97E8-4372-B86B-94E852B1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EFCD1-E5AF-497A-B562-3CEEAD70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89FAD-9660-4783-91B6-D9BCF0C9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EEFF8-2654-44A4-8DC1-0FA6D0D6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B19CE-09D4-449E-B95D-17B55050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B99A8-14DF-452A-8C9B-DFABE57A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9FEE6-4C70-4782-BB86-84C9CA25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0011B-F1E2-4408-86F5-D0E82ABF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A26-13C4-4908-A4DC-05377499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0FB37-402D-4B2B-B27C-8941C2A1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60148-A031-4E2A-89B5-1BF11F2B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AE1EC-9AC1-417C-9C0D-C0CFF488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EB544-1798-4A78-9BD0-F0384941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45FE4-E225-47CA-82BA-6BB0B900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7BEB0-C9D7-48DD-80F8-9FF2A18D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8898E-446F-4A5C-A578-10D1D180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7A986-D1BC-4BC2-8245-853A2414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0FB2D-52D3-4BE1-AAF2-1F719EAB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D80C4-C1FC-410F-A1B4-E132A79A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CB9F-A821-4B8A-8D33-A898897411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5B23-A843-478F-90E6-17E6C9780F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84D0-C7D2-4D9B-827B-564213236D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57C4-1A28-451D-8949-64FFD61A0A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83CE-9EB3-4DC6-844D-92095FF006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1633-96C3-49A6-AA5B-B17C5BD0F2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9FB0-08C0-41A6-BAF9-137B621D0B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654F-8BDC-436F-9432-8C6EFC4C73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1AAC-DF2F-4709-A6AC-08C17B4DF6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A94B-FE3F-46A7-8870-4D306B5645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6F60-C99A-4F05-810F-9B3DD26CF2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BEAE-D356-4694-97FB-A79F8B9613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AF2C-1E89-41F6-851D-E29B16BB10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978F-B6F9-4DC3-9245-A08864A6C8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2240-7349-444E-8FA2-55B460C576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1C3F-D6A5-4E0E-ADBA-8F8462C443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7888-5F1D-461E-9196-DA46B78152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E3C7-EB24-40A0-A232-6DA97894E6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4679-C8AC-4D54-8F76-4011B56B49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9843-FA16-4AA8-8004-03135BDC77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E587-40EA-42C2-A804-B8870A7F42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3623-95BA-4C8A-9970-FB2817EB68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8773-02E7-47D7-A052-795D4A407F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534A-E64F-4ACB-AA48-C33818CC0A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0AA7-E815-4C63-8469-4177BE0E3F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1304-A5BE-4D71-9C7A-0D0F2CFDF0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8AB1-0AB9-420F-B076-E969E92187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AA94-1BD5-42AA-A5A0-FF0AB470BF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9015-3075-4836-A715-C1E6E16381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621C-10AF-4FEB-985D-D52A23CD41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D0C8-2A37-42FD-8A44-C77526BF27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8A27-CC58-4C0B-8CC8-147F16A444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4BF8-7169-4D78-9430-AC9E63403F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9D45-5F58-4675-974C-846297E4DE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C0FB-A26F-48A3-A0B9-5CDB4F356B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3075-1DC0-46ED-96AD-B401088BD2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1497-D59E-47EF-B114-8C53A599F8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37DC-5F7B-41C4-8506-CEA5AC3843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4E37-3C5C-4363-8A45-5E04725D58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F7BD-D515-4480-B8C7-0ECCE3967F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0" descr=""/>
          <p:cNvPicPr/>
          <p:nvPr/>
        </p:nvPicPr>
        <p:blipFill>
          <a:blip r:embed="rId1"/>
          <a:stretch/>
        </p:blipFill>
        <p:spPr>
          <a:xfrm>
            <a:off x="2038320" y="3043080"/>
            <a:ext cx="506736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79873" descr=""/>
          <p:cNvPicPr/>
          <p:nvPr/>
        </p:nvPicPr>
        <p:blipFill>
          <a:blip r:embed="rId1"/>
          <a:stretch/>
        </p:blipFill>
        <p:spPr>
          <a:xfrm>
            <a:off x="542880" y="2014560"/>
            <a:ext cx="8058240" cy="2828880"/>
          </a:xfrm>
          <a:prstGeom prst="rect">
            <a:avLst/>
          </a:prstGeom>
          <a:ln w="0">
            <a:noFill/>
          </a:ln>
        </p:spPr>
      </p:pic>
      <p:sp>
        <p:nvSpPr>
          <p:cNvPr id="1074" name="矩形 79874"/>
          <p:cNvSpPr/>
          <p:nvPr/>
        </p:nvSpPr>
        <p:spPr>
          <a:xfrm>
            <a:off x="7770960" y="2098800"/>
            <a:ext cx="58248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图片 78849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76960" cy="46692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78850" descr=""/>
          <p:cNvPicPr/>
          <p:nvPr/>
        </p:nvPicPr>
        <p:blipFill>
          <a:blip r:embed="rId2"/>
          <a:stretch/>
        </p:blipFill>
        <p:spPr>
          <a:xfrm>
            <a:off x="666720" y="1623960"/>
            <a:ext cx="7810560" cy="3610080"/>
          </a:xfrm>
          <a:prstGeom prst="rect">
            <a:avLst/>
          </a:prstGeom>
          <a:ln w="0">
            <a:noFill/>
          </a:ln>
        </p:spPr>
      </p:pic>
      <p:sp>
        <p:nvSpPr>
          <p:cNvPr id="1077" name="矩形 78851"/>
          <p:cNvSpPr/>
          <p:nvPr/>
        </p:nvSpPr>
        <p:spPr>
          <a:xfrm>
            <a:off x="2351160" y="2232000"/>
            <a:ext cx="5824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78852"/>
          <p:cNvSpPr/>
          <p:nvPr/>
        </p:nvSpPr>
        <p:spPr>
          <a:xfrm>
            <a:off x="3741840" y="3298680"/>
            <a:ext cx="14778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78853"/>
          <p:cNvSpPr/>
          <p:nvPr/>
        </p:nvSpPr>
        <p:spPr>
          <a:xfrm>
            <a:off x="960480" y="3746520"/>
            <a:ext cx="325116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78854"/>
          <p:cNvSpPr/>
          <p:nvPr/>
        </p:nvSpPr>
        <p:spPr>
          <a:xfrm>
            <a:off x="5275440" y="4260960"/>
            <a:ext cx="880920" cy="40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图片 77825" descr=""/>
          <p:cNvPicPr/>
          <p:nvPr/>
        </p:nvPicPr>
        <p:blipFill>
          <a:blip r:embed="rId1"/>
          <a:stretch/>
        </p:blipFill>
        <p:spPr>
          <a:xfrm>
            <a:off x="509760" y="947880"/>
            <a:ext cx="8124480" cy="4962240"/>
          </a:xfrm>
          <a:prstGeom prst="rect">
            <a:avLst/>
          </a:prstGeom>
          <a:ln w="0">
            <a:noFill/>
          </a:ln>
        </p:spPr>
      </p:pic>
      <p:sp>
        <p:nvSpPr>
          <p:cNvPr id="1082" name="矩形 77826"/>
          <p:cNvSpPr/>
          <p:nvPr/>
        </p:nvSpPr>
        <p:spPr>
          <a:xfrm>
            <a:off x="1484280" y="2070000"/>
            <a:ext cx="1143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矩形 77827"/>
          <p:cNvSpPr/>
          <p:nvPr/>
        </p:nvSpPr>
        <p:spPr>
          <a:xfrm>
            <a:off x="7066080" y="2022480"/>
            <a:ext cx="114300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图片 76801" descr=""/>
          <p:cNvPicPr/>
          <p:nvPr/>
        </p:nvPicPr>
        <p:blipFill>
          <a:blip r:embed="rId1"/>
          <a:stretch/>
        </p:blipFill>
        <p:spPr>
          <a:xfrm>
            <a:off x="538200" y="2381400"/>
            <a:ext cx="8067600" cy="2095200"/>
          </a:xfrm>
          <a:prstGeom prst="rect">
            <a:avLst/>
          </a:prstGeom>
          <a:ln w="0">
            <a:noFill/>
          </a:ln>
        </p:spPr>
      </p:pic>
      <p:sp>
        <p:nvSpPr>
          <p:cNvPr id="1085" name="矩形 76802"/>
          <p:cNvSpPr/>
          <p:nvPr/>
        </p:nvSpPr>
        <p:spPr>
          <a:xfrm>
            <a:off x="5970600" y="2984400"/>
            <a:ext cx="5824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76803"/>
          <p:cNvSpPr/>
          <p:nvPr/>
        </p:nvSpPr>
        <p:spPr>
          <a:xfrm>
            <a:off x="2475000" y="3498840"/>
            <a:ext cx="5824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76804"/>
          <p:cNvSpPr/>
          <p:nvPr/>
        </p:nvSpPr>
        <p:spPr>
          <a:xfrm>
            <a:off x="6837480" y="3517920"/>
            <a:ext cx="5824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图片 89090" descr=""/>
          <p:cNvPicPr/>
          <p:nvPr/>
        </p:nvPicPr>
        <p:blipFill>
          <a:blip r:embed="rId1"/>
          <a:stretch/>
        </p:blipFill>
        <p:spPr>
          <a:xfrm>
            <a:off x="514440" y="1119240"/>
            <a:ext cx="8115120" cy="4619520"/>
          </a:xfrm>
          <a:prstGeom prst="rect">
            <a:avLst/>
          </a:prstGeom>
          <a:ln w="0">
            <a:noFill/>
          </a:ln>
        </p:spPr>
      </p:pic>
      <p:sp>
        <p:nvSpPr>
          <p:cNvPr id="1089" name="矩形 89092"/>
          <p:cNvSpPr/>
          <p:nvPr/>
        </p:nvSpPr>
        <p:spPr>
          <a:xfrm>
            <a:off x="7265880" y="4232160"/>
            <a:ext cx="9064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图片 90114" descr=""/>
          <p:cNvPicPr/>
          <p:nvPr/>
        </p:nvPicPr>
        <p:blipFill>
          <a:blip r:embed="rId1"/>
          <a:stretch/>
        </p:blipFill>
        <p:spPr>
          <a:xfrm>
            <a:off x="762120" y="2352600"/>
            <a:ext cx="7619760" cy="2152800"/>
          </a:xfrm>
          <a:prstGeom prst="rect">
            <a:avLst/>
          </a:prstGeom>
          <a:ln w="0">
            <a:noFill/>
          </a:ln>
        </p:spPr>
      </p:pic>
      <p:sp>
        <p:nvSpPr>
          <p:cNvPr id="1091" name="矩形 90115"/>
          <p:cNvSpPr/>
          <p:nvPr/>
        </p:nvSpPr>
        <p:spPr>
          <a:xfrm>
            <a:off x="6827760" y="2460600"/>
            <a:ext cx="91296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矩形 90116"/>
          <p:cNvSpPr/>
          <p:nvPr/>
        </p:nvSpPr>
        <p:spPr>
          <a:xfrm>
            <a:off x="1522440" y="3013200"/>
            <a:ext cx="91296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矩形 90117"/>
          <p:cNvSpPr/>
          <p:nvPr/>
        </p:nvSpPr>
        <p:spPr>
          <a:xfrm>
            <a:off x="6046920" y="3537000"/>
            <a:ext cx="205416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图片 91138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48880" cy="5724360"/>
          </a:xfrm>
          <a:prstGeom prst="rect">
            <a:avLst/>
          </a:prstGeom>
          <a:ln w="0">
            <a:noFill/>
          </a:ln>
        </p:spPr>
      </p:pic>
      <p:sp>
        <p:nvSpPr>
          <p:cNvPr id="1095" name="矩形 91139"/>
          <p:cNvSpPr/>
          <p:nvPr/>
        </p:nvSpPr>
        <p:spPr>
          <a:xfrm>
            <a:off x="5703840" y="2060640"/>
            <a:ext cx="739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矩形 91140"/>
          <p:cNvSpPr/>
          <p:nvPr/>
        </p:nvSpPr>
        <p:spPr>
          <a:xfrm>
            <a:off x="1465200" y="2612880"/>
            <a:ext cx="739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矩形 91141"/>
          <p:cNvSpPr/>
          <p:nvPr/>
        </p:nvSpPr>
        <p:spPr>
          <a:xfrm>
            <a:off x="7227720" y="2593800"/>
            <a:ext cx="739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矩形 91142"/>
          <p:cNvSpPr/>
          <p:nvPr/>
        </p:nvSpPr>
        <p:spPr>
          <a:xfrm>
            <a:off x="1436760" y="3137040"/>
            <a:ext cx="739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矩形 91143"/>
          <p:cNvSpPr/>
          <p:nvPr/>
        </p:nvSpPr>
        <p:spPr>
          <a:xfrm>
            <a:off x="4199040" y="3670200"/>
            <a:ext cx="739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矩形 91144"/>
          <p:cNvSpPr/>
          <p:nvPr/>
        </p:nvSpPr>
        <p:spPr>
          <a:xfrm>
            <a:off x="6541920" y="3679920"/>
            <a:ext cx="739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88065" descr=""/>
          <p:cNvPicPr/>
          <p:nvPr/>
        </p:nvPicPr>
        <p:blipFill>
          <a:blip r:embed="rId1"/>
          <a:stretch/>
        </p:blipFill>
        <p:spPr>
          <a:xfrm>
            <a:off x="361800" y="1362240"/>
            <a:ext cx="8420400" cy="4133520"/>
          </a:xfrm>
          <a:prstGeom prst="rect">
            <a:avLst/>
          </a:prstGeom>
          <a:ln w="0">
            <a:noFill/>
          </a:ln>
        </p:spPr>
      </p:pic>
      <p:sp>
        <p:nvSpPr>
          <p:cNvPr id="1024" name="矩形 88066"/>
          <p:cNvSpPr/>
          <p:nvPr/>
        </p:nvSpPr>
        <p:spPr>
          <a:xfrm>
            <a:off x="4788000" y="2133720"/>
            <a:ext cx="57600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88067"/>
          <p:cNvSpPr/>
          <p:nvPr/>
        </p:nvSpPr>
        <p:spPr>
          <a:xfrm>
            <a:off x="900000" y="2565360"/>
            <a:ext cx="9716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88068"/>
          <p:cNvSpPr/>
          <p:nvPr/>
        </p:nvSpPr>
        <p:spPr>
          <a:xfrm>
            <a:off x="3645000" y="2543040"/>
            <a:ext cx="85572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88069"/>
          <p:cNvSpPr/>
          <p:nvPr/>
        </p:nvSpPr>
        <p:spPr>
          <a:xfrm>
            <a:off x="6864480" y="2552760"/>
            <a:ext cx="73188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88070"/>
          <p:cNvSpPr/>
          <p:nvPr/>
        </p:nvSpPr>
        <p:spPr>
          <a:xfrm>
            <a:off x="6245280" y="2971800"/>
            <a:ext cx="7318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88071"/>
          <p:cNvSpPr/>
          <p:nvPr/>
        </p:nvSpPr>
        <p:spPr>
          <a:xfrm>
            <a:off x="7445520" y="2952720"/>
            <a:ext cx="5824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8072"/>
          <p:cNvSpPr/>
          <p:nvPr/>
        </p:nvSpPr>
        <p:spPr>
          <a:xfrm>
            <a:off x="5102280" y="3390840"/>
            <a:ext cx="5824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88073"/>
          <p:cNvSpPr/>
          <p:nvPr/>
        </p:nvSpPr>
        <p:spPr>
          <a:xfrm>
            <a:off x="6273720" y="3371760"/>
            <a:ext cx="5828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88074"/>
          <p:cNvSpPr/>
          <p:nvPr/>
        </p:nvSpPr>
        <p:spPr>
          <a:xfrm>
            <a:off x="6235560" y="3790800"/>
            <a:ext cx="5828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88075"/>
          <p:cNvSpPr/>
          <p:nvPr/>
        </p:nvSpPr>
        <p:spPr>
          <a:xfrm>
            <a:off x="7407360" y="3809880"/>
            <a:ext cx="5824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88076"/>
          <p:cNvSpPr/>
          <p:nvPr/>
        </p:nvSpPr>
        <p:spPr>
          <a:xfrm>
            <a:off x="5149800" y="4210200"/>
            <a:ext cx="5828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88077"/>
          <p:cNvSpPr/>
          <p:nvPr/>
        </p:nvSpPr>
        <p:spPr>
          <a:xfrm>
            <a:off x="6254640" y="4229280"/>
            <a:ext cx="5828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88078"/>
          <p:cNvSpPr/>
          <p:nvPr/>
        </p:nvSpPr>
        <p:spPr>
          <a:xfrm>
            <a:off x="4454640" y="4638600"/>
            <a:ext cx="5824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88079"/>
          <p:cNvSpPr/>
          <p:nvPr/>
        </p:nvSpPr>
        <p:spPr>
          <a:xfrm>
            <a:off x="6407280" y="4638600"/>
            <a:ext cx="5824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88080"/>
          <p:cNvSpPr/>
          <p:nvPr/>
        </p:nvSpPr>
        <p:spPr>
          <a:xfrm>
            <a:off x="1303200" y="5051520"/>
            <a:ext cx="5828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87041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67560" cy="4572000"/>
          </a:xfrm>
          <a:prstGeom prst="rect">
            <a:avLst/>
          </a:prstGeom>
          <a:ln w="0">
            <a:noFill/>
          </a:ln>
        </p:spPr>
      </p:pic>
      <p:sp>
        <p:nvSpPr>
          <p:cNvPr id="1040" name="矩形 87044"/>
          <p:cNvSpPr/>
          <p:nvPr/>
        </p:nvSpPr>
        <p:spPr>
          <a:xfrm>
            <a:off x="912960" y="2784600"/>
            <a:ext cx="85068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87045"/>
          <p:cNvSpPr/>
          <p:nvPr/>
        </p:nvSpPr>
        <p:spPr>
          <a:xfrm>
            <a:off x="1360440" y="3203640"/>
            <a:ext cx="8510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87046"/>
          <p:cNvSpPr/>
          <p:nvPr/>
        </p:nvSpPr>
        <p:spPr>
          <a:xfrm>
            <a:off x="3036960" y="3613320"/>
            <a:ext cx="85068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87047"/>
          <p:cNvSpPr/>
          <p:nvPr/>
        </p:nvSpPr>
        <p:spPr>
          <a:xfrm>
            <a:off x="5218200" y="4032360"/>
            <a:ext cx="50616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7048"/>
          <p:cNvSpPr/>
          <p:nvPr/>
        </p:nvSpPr>
        <p:spPr>
          <a:xfrm>
            <a:off x="1512720" y="4451400"/>
            <a:ext cx="50652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7049"/>
          <p:cNvSpPr/>
          <p:nvPr/>
        </p:nvSpPr>
        <p:spPr>
          <a:xfrm>
            <a:off x="6418440" y="4460760"/>
            <a:ext cx="50616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87050"/>
          <p:cNvSpPr/>
          <p:nvPr/>
        </p:nvSpPr>
        <p:spPr>
          <a:xfrm>
            <a:off x="7647120" y="4451400"/>
            <a:ext cx="50616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87051"/>
          <p:cNvSpPr/>
          <p:nvPr/>
        </p:nvSpPr>
        <p:spPr>
          <a:xfrm>
            <a:off x="798480" y="4870440"/>
            <a:ext cx="50652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87052"/>
          <p:cNvSpPr/>
          <p:nvPr/>
        </p:nvSpPr>
        <p:spPr>
          <a:xfrm>
            <a:off x="4684680" y="4851360"/>
            <a:ext cx="50652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87053"/>
          <p:cNvSpPr/>
          <p:nvPr/>
        </p:nvSpPr>
        <p:spPr>
          <a:xfrm>
            <a:off x="1598760" y="5280120"/>
            <a:ext cx="59688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87054"/>
          <p:cNvSpPr/>
          <p:nvPr/>
        </p:nvSpPr>
        <p:spPr>
          <a:xfrm>
            <a:off x="2741760" y="5289480"/>
            <a:ext cx="5968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87055"/>
          <p:cNvSpPr/>
          <p:nvPr/>
        </p:nvSpPr>
        <p:spPr>
          <a:xfrm>
            <a:off x="3846600" y="5289480"/>
            <a:ext cx="5968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86017" descr=""/>
          <p:cNvPicPr/>
          <p:nvPr/>
        </p:nvPicPr>
        <p:blipFill>
          <a:blip r:embed="rId1"/>
          <a:stretch/>
        </p:blipFill>
        <p:spPr>
          <a:xfrm>
            <a:off x="318960" y="1166760"/>
            <a:ext cx="8506080" cy="4524480"/>
          </a:xfrm>
          <a:prstGeom prst="rect">
            <a:avLst/>
          </a:prstGeom>
          <a:ln w="0">
            <a:noFill/>
          </a:ln>
        </p:spPr>
      </p:pic>
      <p:sp>
        <p:nvSpPr>
          <p:cNvPr id="1053" name="矩形 86018"/>
          <p:cNvSpPr/>
          <p:nvPr/>
        </p:nvSpPr>
        <p:spPr>
          <a:xfrm>
            <a:off x="7732800" y="1641600"/>
            <a:ext cx="101592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86019"/>
          <p:cNvSpPr/>
          <p:nvPr/>
        </p:nvSpPr>
        <p:spPr>
          <a:xfrm>
            <a:off x="539640" y="2050920"/>
            <a:ext cx="54612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86020"/>
          <p:cNvSpPr/>
          <p:nvPr/>
        </p:nvSpPr>
        <p:spPr>
          <a:xfrm>
            <a:off x="3208320" y="2060640"/>
            <a:ext cx="85896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86021"/>
          <p:cNvSpPr/>
          <p:nvPr/>
        </p:nvSpPr>
        <p:spPr>
          <a:xfrm>
            <a:off x="750960" y="2479680"/>
            <a:ext cx="50796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86022"/>
          <p:cNvSpPr/>
          <p:nvPr/>
        </p:nvSpPr>
        <p:spPr>
          <a:xfrm>
            <a:off x="1103400" y="2898720"/>
            <a:ext cx="6602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84993" descr=""/>
          <p:cNvPicPr/>
          <p:nvPr/>
        </p:nvPicPr>
        <p:blipFill>
          <a:blip r:embed="rId1"/>
          <a:stretch/>
        </p:blipFill>
        <p:spPr>
          <a:xfrm>
            <a:off x="318960" y="2138400"/>
            <a:ext cx="8506080" cy="2581200"/>
          </a:xfrm>
          <a:prstGeom prst="rect">
            <a:avLst/>
          </a:prstGeom>
          <a:ln w="0">
            <a:noFill/>
          </a:ln>
        </p:spPr>
      </p:pic>
      <p:sp>
        <p:nvSpPr>
          <p:cNvPr id="1059" name="矩形 84994"/>
          <p:cNvSpPr/>
          <p:nvPr/>
        </p:nvSpPr>
        <p:spPr>
          <a:xfrm>
            <a:off x="808200" y="2536920"/>
            <a:ext cx="9554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84995"/>
          <p:cNvSpPr/>
          <p:nvPr/>
        </p:nvSpPr>
        <p:spPr>
          <a:xfrm>
            <a:off x="7199280" y="2546280"/>
            <a:ext cx="9558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84996"/>
          <p:cNvSpPr/>
          <p:nvPr/>
        </p:nvSpPr>
        <p:spPr>
          <a:xfrm>
            <a:off x="8342280" y="3375000"/>
            <a:ext cx="4064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84997"/>
          <p:cNvSpPr/>
          <p:nvPr/>
        </p:nvSpPr>
        <p:spPr>
          <a:xfrm>
            <a:off x="598320" y="3803760"/>
            <a:ext cx="4064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84998"/>
          <p:cNvSpPr/>
          <p:nvPr/>
        </p:nvSpPr>
        <p:spPr>
          <a:xfrm>
            <a:off x="6684840" y="3803760"/>
            <a:ext cx="4064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84999"/>
          <p:cNvSpPr/>
          <p:nvPr/>
        </p:nvSpPr>
        <p:spPr>
          <a:xfrm>
            <a:off x="2008080" y="4203720"/>
            <a:ext cx="4064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83969" descr=""/>
          <p:cNvPicPr/>
          <p:nvPr/>
        </p:nvPicPr>
        <p:blipFill>
          <a:blip r:embed="rId1"/>
          <a:stretch/>
        </p:blipFill>
        <p:spPr>
          <a:xfrm>
            <a:off x="552600" y="1171440"/>
            <a:ext cx="8038800" cy="4515120"/>
          </a:xfrm>
          <a:prstGeom prst="rect">
            <a:avLst/>
          </a:prstGeom>
          <a:ln w="0">
            <a:noFill/>
          </a:ln>
        </p:spPr>
      </p:pic>
      <p:sp>
        <p:nvSpPr>
          <p:cNvPr id="1066" name="矩形 83970"/>
          <p:cNvSpPr/>
          <p:nvPr/>
        </p:nvSpPr>
        <p:spPr>
          <a:xfrm>
            <a:off x="5913360" y="3022560"/>
            <a:ext cx="5828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82945" descr=""/>
          <p:cNvPicPr/>
          <p:nvPr/>
        </p:nvPicPr>
        <p:blipFill>
          <a:blip r:embed="rId1"/>
          <a:stretch/>
        </p:blipFill>
        <p:spPr>
          <a:xfrm>
            <a:off x="468360" y="695160"/>
            <a:ext cx="8172360" cy="6162840"/>
          </a:xfrm>
          <a:prstGeom prst="rect">
            <a:avLst/>
          </a:prstGeom>
          <a:ln w="0">
            <a:noFill/>
          </a:ln>
        </p:spPr>
      </p:pic>
      <p:sp>
        <p:nvSpPr>
          <p:cNvPr id="1068" name="矩形 82946"/>
          <p:cNvSpPr/>
          <p:nvPr/>
        </p:nvSpPr>
        <p:spPr>
          <a:xfrm>
            <a:off x="7694640" y="1279440"/>
            <a:ext cx="5824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81921" descr=""/>
          <p:cNvPicPr/>
          <p:nvPr/>
        </p:nvPicPr>
        <p:blipFill>
          <a:blip r:embed="rId1"/>
          <a:stretch/>
        </p:blipFill>
        <p:spPr>
          <a:xfrm>
            <a:off x="514440" y="957240"/>
            <a:ext cx="8115120" cy="4943520"/>
          </a:xfrm>
          <a:prstGeom prst="rect">
            <a:avLst/>
          </a:prstGeom>
          <a:ln w="0">
            <a:noFill/>
          </a:ln>
        </p:spPr>
      </p:pic>
      <p:sp>
        <p:nvSpPr>
          <p:cNvPr id="1070" name="矩形 81922"/>
          <p:cNvSpPr/>
          <p:nvPr/>
        </p:nvSpPr>
        <p:spPr>
          <a:xfrm>
            <a:off x="5732640" y="2127240"/>
            <a:ext cx="5824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80897" descr=""/>
          <p:cNvPicPr/>
          <p:nvPr/>
        </p:nvPicPr>
        <p:blipFill>
          <a:blip r:embed="rId1"/>
          <a:stretch/>
        </p:blipFill>
        <p:spPr>
          <a:xfrm>
            <a:off x="542880" y="1138320"/>
            <a:ext cx="8058240" cy="4581360"/>
          </a:xfrm>
          <a:prstGeom prst="rect">
            <a:avLst/>
          </a:prstGeom>
          <a:ln w="0">
            <a:noFill/>
          </a:ln>
        </p:spPr>
      </p:pic>
      <p:sp>
        <p:nvSpPr>
          <p:cNvPr id="1072" name="矩形 80898"/>
          <p:cNvSpPr/>
          <p:nvPr/>
        </p:nvSpPr>
        <p:spPr>
          <a:xfrm>
            <a:off x="7761240" y="1155600"/>
            <a:ext cx="5828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51:06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